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5.jpeg" ContentType="image/jpe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34AD4D-8874-43E8-971A-05D8007BB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A2613-47FB-4D4C-904A-C944BC592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13283-1BF2-4924-AFF2-EB9573B46B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DB1CDA-9C9A-49F0-815C-154B1CC75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EFFF51-E63D-4165-AB5D-5B444249A5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02DF59-87A3-4385-992B-64C1A196A3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833A0-A3F3-41C4-AA12-F4D3D78C7C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507D51-3353-4BDE-8B5F-0B9D6B2516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950481-C20B-4C1C-A845-436866389C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DF305-AC66-4CCF-9BA7-CEDF2CFB79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9B526-2F67-4EBB-8675-9DE91DE54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3A9CE-6AC2-4E5C-B588-C4A8695BA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497E6-F5DC-46E7-B37D-2059B3D69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34A14-4DFE-4DD7-9764-5FA8862EA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ABBB4-9E54-42C3-AA4A-DF92F6FAB2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4A9954-E6DC-4A39-8BF4-2985890851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75FF1E-C6B0-4C94-91E0-8C9AB771E5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FF74E-7E7B-4CC5-A95E-AEC1763FA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44684-2AB8-4B2D-BD6B-121F41A6B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300AF-1518-4534-BC23-3C8D7D4AE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6C351-1BF3-4D9F-8676-7B4A99F5F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A693A-809D-412E-AC21-FC25688F0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DBFC6-DA0C-45EC-8562-47B4E026B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E37C8-2BB8-4FF3-B010-0A1DED8650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7FA00-7B73-4425-B494-7020AD4B088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249EF-EB19-49C3-95A5-8952CE6A8DF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ages.google.com/imgres?imgurl=http://images.buycostumes.com/mgen/merchandiser/61653.jpg&amp;imgrefurl=http://www.buycostumes.com/browse/Classic/New/_/N-1z141w7Z1z140zn/results1.aspx&amp;usg=__bneLQsx0Xe_2g0UjDpcHCI7h6iU=&amp;h=1306&amp;w=970&amp;sz=245&amp;hl=en&amp;start=23&amp;tbnid=-i0I9HIqxuVHFM:&amp;tbnh=150&amp;tbnw=111&amp;prev=/images%3Fq%3Ddog%2Bin%2Bsunflower%2Boutfit%26ndsp%3D20%26hl%3Den%26sa%3DN%26start%3D20"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http://i.pbase.com/g6/17/553517/2/84535477.CVQzUcdH.jpg&amp;imgrefurl=http://www.pbase.com/cindyflood/image/84535477&amp;usg=__6oDuILUzrrEv6yRtYpGvujniios=&amp;h=533&amp;w=800&amp;sz=187&amp;hl=en&amp;start=17&amp;tbnid=daZJAo4SM5qAPM:&amp;tbnh=95&amp;tbnw=143&amp;prev=/images%3Fq%3Dcabin%2Bscenes%26hl%3Den"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usageorge.com/Wallpapers/Cities-Places/wallpaper/Grand%2520Canyon.jpg&amp;imgrefurl=http://www.usageorge.com/Wallpapers/Cities-Places/Grand-Canyon.html&amp;usg=__ZRTNDv0J7Rx5vjhg9qz6P2Idn8Q=&amp;h=768&amp;w=1024&amp;sz=224&amp;hl=en&amp;start=39&amp;tbnid=jfA4LC-MnxoESM:&amp;tbnh=113&amp;tbnw=150&amp;prev=/images%3Fq%3Dgrand%2Bcanyon%26ndsp%3D20%26hl%3Den%26sa%3DN%26start%3D20"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tbn0.google.com/hosted/images/c%3Fq%3D37ff1ea25c66caba_large&amp;imgrefurl=http://images.google.com/hosted/life/l%3Fimgurl%3D37ff1ea25c66caba&amp;usg=__iu3Wo0jCX18sQ5lQZVNosV0by3I=&amp;h=1280&amp;w=1278&amp;sz=74&amp;hl=en&amp;start=12&amp;tbnid=jQKEZH5J4leUaM:&amp;tbnh=150&amp;tbnw=150&amp;prev=/images%3Fq%3D1960s%2BApollo%2Bspace%2Bsource:life%26hl%3Den"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tbn0.google.com/hosted/images/c%3Fq%3Db05d889088d40c32_large&amp;imgrefurl=http://images.google.com/hosted/life/l%3Fimgurl%3Db05d889088d40c32&amp;usg=__m5ZV05lKeeAAYg4p5bn6V2qvnAo=&amp;h=994&amp;w=1280&amp;sz=188&amp;hl=en&amp;start=4&amp;tbnid=fpv3JPXFneTgjM:&amp;tbnh=116&amp;tbnw=150&amp;prev=/images%3Fq%3DVietnam%2BWar%2Bsource:life%26hl%3Den"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English</a:t>
            </a:r>
            <a:endParaRPr b="0" lang="en-US" sz="48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citing Day 2!!</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766880" y="1557360"/>
            <a:ext cx="5610240" cy="374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6" name="" descr="">
            <a:hlinkClick r:id="rId1"/>
          </p:cNvPr>
          <p:cNvPicPr/>
          <p:nvPr/>
        </p:nvPicPr>
        <p:blipFill>
          <a:blip r:embed="rId2"/>
          <a:stretch/>
        </p:blipFill>
        <p:spPr>
          <a:xfrm>
            <a:off x="2362320" y="1447920"/>
            <a:ext cx="4343400" cy="4190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7" name="" descr="">
            <a:hlinkClick r:id="rId1"/>
          </p:cNvPr>
          <p:cNvPicPr/>
          <p:nvPr/>
        </p:nvPicPr>
        <p:blipFill>
          <a:blip r:embed="rId2"/>
          <a:stretch/>
        </p:blipFill>
        <p:spPr>
          <a:xfrm>
            <a:off x="914400" y="1523880"/>
            <a:ext cx="7543800" cy="4724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8" name="" descr="">
            <a:hlinkClick r:id="rId1"/>
          </p:cNvPr>
          <p:cNvPicPr/>
          <p:nvPr/>
        </p:nvPicPr>
        <p:blipFill>
          <a:blip r:embed="rId2"/>
          <a:stretch/>
        </p:blipFill>
        <p:spPr>
          <a:xfrm>
            <a:off x="1066680" y="762120"/>
            <a:ext cx="6858000" cy="541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2076480" y="1557360"/>
            <a:ext cx="4991040" cy="374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1828800" y="990720"/>
            <a:ext cx="5562720" cy="502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1066680" y="914400"/>
            <a:ext cx="6553440" cy="5181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genda</a:t>
            </a:r>
            <a:endParaRPr b="0" lang="en-US" sz="44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 over syllabu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 over AR requirement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 DOL</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images assignment</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ecard assign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OL</a:t>
            </a:r>
            <a:endParaRPr b="0" lang="en-US" sz="44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age Assignment</a:t>
            </a:r>
            <a:endParaRPr b="0" lang="en-US" sz="44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your notebook (the one you will use ONLY for English) write the first thing that pops into your head when you look at the images. We will go through the images twic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sure it’s appropriate.</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ill be using this as part of your upcoming assignmen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0" name="" descr="ocean alive"/>
          <p:cNvPicPr/>
          <p:nvPr/>
        </p:nvPicPr>
        <p:blipFill>
          <a:blip r:embed="rId1"/>
          <a:stretch/>
        </p:blipFill>
        <p:spPr>
          <a:xfrm>
            <a:off x="380880" y="1066680"/>
            <a:ext cx="8458200" cy="510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1" name="" descr="">
            <a:hlinkClick r:id="rId1"/>
          </p:cNvPr>
          <p:cNvPicPr/>
          <p:nvPr/>
        </p:nvPicPr>
        <p:blipFill>
          <a:blip r:embed="rId2"/>
          <a:stretch/>
        </p:blipFill>
        <p:spPr>
          <a:xfrm>
            <a:off x="609480" y="685800"/>
            <a:ext cx="7772400" cy="548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2" name="" descr="">
            <a:hlinkClick r:id="rId1"/>
          </p:cNvPr>
          <p:cNvPicPr/>
          <p:nvPr/>
        </p:nvPicPr>
        <p:blipFill>
          <a:blip r:embed="rId2"/>
          <a:stretch/>
        </p:blipFill>
        <p:spPr>
          <a:xfrm>
            <a:off x="914400" y="380880"/>
            <a:ext cx="7010280" cy="558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1219320" y="1066680"/>
            <a:ext cx="6858000" cy="5376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2438280" y="838080"/>
            <a:ext cx="4191120" cy="510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9T19:06:42Z</dcterms:created>
  <dc:creator>rebecca</dc:creator>
  <dc:description/>
  <dc:language>en-US</dc:language>
  <cp:lastModifiedBy>rebecca</cp:lastModifiedBy>
  <dcterms:modified xsi:type="dcterms:W3CDTF">2009-08-19T20:02:34Z</dcterms:modified>
  <cp:revision>2</cp:revision>
  <dc:subject/>
  <dc:title>English</dc:title>
</cp:coreProperties>
</file>